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3C1-4F12-4170-B112-32A59A46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DE5-6C0C-4A77-AB56-EDF5568A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065-6A90-4BB6-A5CE-8E5E19F4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3DB-3E3F-441A-B9AA-4DF556AB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622-A4D8-4728-8A4B-4D82691F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3C11-C185-4713-BC72-D2FF51B6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149-635F-4E5E-81FA-CFDE311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61E5-B993-43A4-862D-F90C0B1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C23A-5FF4-4560-86A2-796B5DA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B10-A0EE-4840-9583-F4DF09DD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DCB9-4CE9-46D9-8F21-DFB84F5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30D-F757-4F1B-AE92-D4DE112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2A2-A709-4C26-92BD-2519E8C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87FE-473C-4974-A8A4-075AD1D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7F4C-A0F7-46E8-8AA8-948F34D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D3C-1BDB-42CE-924C-2D48A5F9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022-223E-476C-A18D-E5B85DBD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FDD3-ED74-40E6-ADD1-6728EC9A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60DA-AE18-4477-BEA4-B364B39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EFD1-A6CB-4A26-980A-2C9582D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5BDF-7AD8-44E2-B6F3-B6FEA9CD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52813-82DD-4A19-83B0-3A68CF37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0A3-C062-45BE-9518-130DD7EC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577A-5BA9-4931-9A25-F160CC3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281E-3EFD-418C-9B21-BBC171F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C3F5-5892-4926-9049-2CB23F6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9CD7-3B9E-480A-8D10-3640185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A1C7-5791-427C-8539-F1558609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C55B-C3D6-45FB-BF5B-E7E50756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64A5-F3AE-45ED-8E3A-3884C7A7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08BA-1848-4D37-AEC2-4618E376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E550-076D-462D-A84F-4CA6AE7E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A95A-35CE-4070-B58E-375C3714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308-35A2-4E64-B319-BE731A3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AAEF-A278-4FE6-9F85-5F269D1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C26A-6F57-41D5-AB79-ABCB0996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51FD-1D09-4267-9ADE-7A2E032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9555-EA25-4254-8FD7-262B87D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BDC6-4D7B-4CCC-892D-6657BA0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6275-96AE-461A-B787-0797F65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7CB3-91F3-4E3D-A408-0FAE466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AC1D-F32A-490F-8EE7-C5829E1A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A9A2-A866-422F-B80B-6B4F0389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6B10E-AA1F-4FDB-995B-61A50BEA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A1CF-58DE-4F1E-A357-C34480CF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C4CC-4B1B-4971-86B3-3200E46E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17493-2C6C-4427-88F7-60695D42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94897-65C1-44EE-A528-EAB91B56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BCF6-7D7E-4D9E-8740-1789B401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237B4-19AB-43F2-966E-44F5DDE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E5E3-2DD5-40BC-BB0A-480CCAA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F2F5-A121-4773-95D0-1E80D82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2B42-AF88-405B-B199-BE2CFD0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1899B-8F3F-4CAF-9E83-0DB4A452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9CCA-20CC-481A-9B14-4419537E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7B4-59ED-4D10-AFAF-6E47FA0D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E30A-9C85-4216-842A-C4A55A52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3CC-B073-4BBA-93D7-18CFCC2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18A4-5DDD-4B51-AAE6-3ECFBA5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689-F49D-4185-85EB-4DE6745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968-921D-4D8E-ABCA-BBEC577F1B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0145-D69E-4B74-9289-5B68F58FD1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55C-784F-4FF8-8ED2-C7104A4F783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19E-F034-4DA7-B65B-7B4B142ABE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464-4A8B-4BA0-AF09-1B2DF05ED64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1619280" y="1629720"/>
            <a:ext cx="57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«Общечеловеческие ценности в Нагорной проповеди Хрис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поиск истины и глубины смыс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4360" y="11970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611280" y="1971360"/>
            <a:ext cx="7345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судите, да не судимы буде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 судите, да не судимы буде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бо каким судом судите, таким будете судимы; и какою мерою мерите, такою и вам будут мер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что ты смотришь на сучок в глазе брата твоего, а бревна в твоем глазе не чувствуеш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ли как скажешь брату твоему: "дай, я выну сучок из глаза твоего", а вот, в твоем глазе брев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ицемер! вынь прежде бревно из твоего глаза и тогда увидишь, как вынуть сучок из глаза брата тво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олотое прави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так во всем, как хотите, чтобы с вами поступали люди, так поступайте и вы с ними, ибо в этом закон и прор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684360" y="11970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684360" y="1574640"/>
            <a:ext cx="7343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итча о благоразумном строит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ак всякого, кто слушает слова Мои сии и исполняет их, уподоблю мужу благоразумному, который построил дом свой на кам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шел дождь, и разлились реки, и подули ветры, и устремились на дом тот, и он не упал, потому что основан был на кам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всякий, кто слушает сии слова Мои и не исполняет их, уподобится человеку безрассудному, который построил дом свой на пес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шел дождь, и разлились реки, и подули ветры, и налегли на дом тот; и он упал, и было падение его велик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нец Нагорной пропов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когда Иисус окончил слова сии, народ дивился учению Е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бо Он учил их, как власть имеющий, а не как книжники и фарисе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Пользователь\Desktop\1018732681.jpg"/>
          <p:cNvPicPr/>
          <p:nvPr/>
        </p:nvPicPr>
        <p:blipFill>
          <a:blip r:embed="rId1"/>
          <a:stretch/>
        </p:blipFill>
        <p:spPr>
          <a:xfrm>
            <a:off x="3203640" y="1052640"/>
            <a:ext cx="2714400" cy="3987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0" y="5375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ная часть Нового Завета, посвященная земной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риста и его учению,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Евангел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2309040" y="40464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блия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основа христианского 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826920" y="404640"/>
            <a:ext cx="749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ГОРНАЯ ПРОПОВЕДЬ (выдерж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Господь Иисус Христос высказал всю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Своего учения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амое основное это «Заповеди блаженства», но кроме них есть еще много других поучений. Нагорная проповедь начинается Заповедями блаженства, а кончается «Притчей о благоразумном строителе» (Матфея 7:24-27) которая нас учит на каком основании нужно строить нашу жизнь и что именно во время беды ясно видно преимущество жизни по заповедям Закона Бо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Users\Пользователь\Desktop\propoved-iisysa.jpg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97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Пользователь\Desktop\Nagornaya-propoved-Iisusa-Hrista.jpg"/>
          <p:cNvPicPr/>
          <p:nvPr/>
        </p:nvPicPr>
        <p:blipFill>
          <a:blip r:embed="rId1"/>
          <a:stretch/>
        </p:blipFill>
        <p:spPr>
          <a:xfrm>
            <a:off x="324000" y="476280"/>
            <a:ext cx="8651880" cy="575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684360" y="1197000"/>
            <a:ext cx="7416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ы - свет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 - свет ми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укрыться город, стоящий на верху г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, зажегши свечу, не ставят ее под сосудом, но на подсвечнике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ветит всем в до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да светит свет ваш пред людьм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они видели ваши добрые дела и прославляли Отца вашего Небес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клянись вов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ще слышали вы, что сказано древним: не преступай клятвы, но исполняй пред Господом клятвы тво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Я говорю вам: не клянись вовсе: ни небом, потому что оно престол Бож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землею, потому что она подножие ног Его; ни Иерусалимом, потому что он город великого Цар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 головою твоею не клянись, потому что не можешь ни одного волоса сделать белым или чер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да будет слово ваше: да, да; нет, нет; а что сверх этого, то от лука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684360" y="11970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611280" y="1073520"/>
            <a:ext cx="734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осящему у тебя 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 слышали, что сказано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о за око и зуб за з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Я говорю вам: не противься злому. Но кто ударит тебя в правую щеку твою, обрати к нему и другу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кто захочет судиться с тобою и взять у тебя рубашку, отдай ему и верхнюю одеж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кто принудит тебя идти с ним одно поприще, иди с ним д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ящему у тебя дай, и от хотящего занять у тебя не отвращай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Любить нужно всех, включая вра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 слышали, что сказано: люби ближнего твоего и ненавидь врага тво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 Я говорю вам: любите врагов ваших, благословляйте проклинающих вас, благотвор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навидящим вас и молитесь за обижающих вас и гонящих ва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будете сынами Отца вашего Небесного, ибо Он повелевает солнцу Своему восходить над злыми и добрыми и посыл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ждь на праведных и неправед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бо если вы будете любить любящих вас, какая вам награда? Не то же ли делают и мытар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если вы приветствуете только братьев ваших, что особенного делаете? Не так же ли поступают и язычник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684360" y="11970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611280" y="1728000"/>
            <a:ext cx="7345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илостыню нельзя делать на пок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отрите, не творите милостыни вашей пред людьми с тем, чтобы они видели вас: иначе не будет вам награды от Отца вашего Небес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ак, когда творишь милостыню, не труби перед собою, как делают лицемеры в синагогах и на улицах, чтобы прославляли их люди. Истинно говорю вам: они уже получают награду св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тебя же, когда творишь милостыню, пусть левая рука твоя не знает, что делает прав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милостыня твоя была втайне; и Отец твой, видящий тайное, воздаст тебе яв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ужно прощ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бо если вы будете прощать людям согрешения их, то простит и вам Отец ваш Небес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если не будете прощать людям согрешения их, то и Отец ваш не простит вам согрешений ва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380960" y="425880"/>
            <a:ext cx="63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ГОРНАЯ ПРОПОВЕДЬ (выдержки)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вангелие от Матфея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атфея 5:1-7:29; Луки 6:12-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684360" y="11970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ГЛАВА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611280" y="1971360"/>
            <a:ext cx="7345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собирайте себе сокровищ на зем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бирайте себе сокровищ на земле, где моль и ржа истребляют и где воры подкапывают и краду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собирайте себе сокровища на небе, где ни моль, ни ржа не истребляют и где воры не подкапывают и не краду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бо где сокровище ваше, там будет и сердце ва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икто не может служить двум госп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то не может служить двум господам: ибо или одного будет ненавидеть, а другого любить; или одному станет усердствовать, а о другом нерадеть. Не можете служить Богу и маммо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ему говорю вам: не заботьтесь для души вашей, что вам есть и что пить, ни для тела вашего, во что одеться. Душа не больше ли пищи, и тело одежды?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6:30:00Z</dcterms:created>
  <dc:creator>Лена</dc:creator>
  <dc:description/>
  <dc:language>en-US</dc:language>
  <cp:lastModifiedBy>Пользователь</cp:lastModifiedBy>
  <dcterms:modified xsi:type="dcterms:W3CDTF">2022-04-07T14:30:25Z</dcterms:modified>
  <cp:revision>48</cp:revision>
  <dc:subject/>
  <dc:title>Интерьер крестьянской избы.</dc:title>
</cp:coreProperties>
</file>